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D00-8E70-46A2-963F-2C73B683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B5A-DE26-4760-824A-E69AB7DB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760-1ECB-4E31-8537-062471E2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010-0E7A-4ED8-B1FF-274D9D26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60F-F61A-4931-B8A1-E855BD0F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718-E116-47B4-B890-E8CEB638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BD0-B43B-4E9E-8DAA-4970547C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9A3-EAED-424E-B68D-49E47925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3AD-5605-4266-AABD-8787F713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680-2B27-4D53-8416-964E2695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3E9-597E-4FAF-913A-B126233B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FB4-5975-4589-A405-4FD31026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9476-2F18-400C-921E-39D84F8E3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68706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FORMACIÓN DEL PRETÉRITO IMPERFECTO </a:t>
            </a: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 INDICATIVO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208720" cy="360360"/>
          </a:xfrm>
          <a:prstGeom prst="rect">
            <a:avLst/>
          </a:prstGeom>
          <a:solidFill>
            <a:srgbClr val="6600cc">
              <a:alpha val="2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AÍZ + </a:t>
            </a: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CARACTERÍSTICA TEMPORAL-MODAL +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DESINENCIAS 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0360" y="3429000"/>
            <a:ext cx="3887640" cy="825480"/>
          </a:xfrm>
          <a:prstGeom prst="rect">
            <a:avLst/>
          </a:prstGeom>
          <a:solidFill>
            <a:srgbClr val="99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MA    + 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BA +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ONE  +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BA +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3429000"/>
            <a:ext cx="39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Comic Sans MS"/>
              </a:rPr>
              <a:t>1ª Y 2ª CONJUGACIÓ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51560" y="5084640"/>
            <a:ext cx="27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Comic Sans MS"/>
              </a:rPr>
              <a:t>3ª Y 4ª CONJUGACIÓ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4797360"/>
            <a:ext cx="3816360" cy="1557000"/>
          </a:xfrm>
          <a:prstGeom prst="rect">
            <a:avLst/>
          </a:prstGeom>
          <a:solidFill>
            <a:srgbClr val="99cc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UC    + 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EBA +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PI   + 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EBA +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UDI  + 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EBA +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55840" y="2065320"/>
          <a:ext cx="5852520" cy="3614400"/>
        </p:xfrm>
        <a:graphic>
          <a:graphicData uri="http://schemas.openxmlformats.org/drawingml/2006/table">
            <a:tbl>
              <a:tblPr/>
              <a:tblGrid>
                <a:gridCol w="2844720"/>
                <a:gridCol w="3007800"/>
              </a:tblGrid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1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2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NSEJA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68709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ETÉRITO IMPERFECTO 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E INDICATIVO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ETÉRITO IMPERFECTO </a:t>
            </a: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 INDICATIVO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11280" y="2492280"/>
          <a:ext cx="7696080" cy="3167280"/>
        </p:xfrm>
        <a:graphic>
          <a:graphicData uri="http://schemas.openxmlformats.org/drawingml/2006/table">
            <a:tbl>
              <a:tblPr/>
              <a:tblGrid>
                <a:gridCol w="2406600"/>
                <a:gridCol w="2886120"/>
                <a:gridCol w="24033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3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3ª conjugación  mix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4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1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5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1116000"/>
                <a:gridCol w="1932120"/>
                <a:gridCol w="1523880"/>
                <a:gridCol w="1523880"/>
                <a:gridCol w="1524240"/>
                <a:gridCol w="1523880"/>
              </a:tblGrid>
              <a:tr h="8373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TÉRITO IMPERF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ª Conj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ª Conj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ª Conj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ª Conj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j. mi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252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a-b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(yo amab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ne-b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ge-b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die-b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pie-b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a-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ne-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ge-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die-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pie-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a-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ne-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ge-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die-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pie-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9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a-ba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ne-ba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ge-ba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die-ba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pie-ba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a-b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ne-b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ge-b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die-b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pie-b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a-b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ne-b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ge-b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die-b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pie-b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4449600" y="4756680"/>
            <a:ext cx="2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ETÉRITO IMPERFECTO </a:t>
            </a: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 INDICATIVO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87640" y="2421000"/>
          <a:ext cx="2406600" cy="3098880"/>
        </p:xfrm>
        <a:graphic>
          <a:graphicData uri="http://schemas.openxmlformats.org/drawingml/2006/table">
            <a:tbl>
              <a:tblPr/>
              <a:tblGrid>
                <a:gridCol w="240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VERBO S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R-A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R-A-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R-A-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R-A-M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R-A-T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R-A-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1:13:56Z</dcterms:created>
  <dc:creator>IES</dc:creator>
  <dc:description/>
  <dc:language>en-US</dc:language>
  <cp:lastModifiedBy>IES</cp:lastModifiedBy>
  <dcterms:modified xsi:type="dcterms:W3CDTF">2010-05-18T11:25:09Z</dcterms:modified>
  <cp:revision>3</cp:revision>
  <dc:subject/>
  <dc:title>Diapositiva 1</dc:title>
</cp:coreProperties>
</file>